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17.wmf" ContentType="image/x-wmf"/>
  <Override PartName="/ppt/media/image6.gif" ContentType="image/gif"/>
  <Override PartName="/ppt/media/image20.wmf" ContentType="image/x-wmf"/>
  <Override PartName="/ppt/media/image7.gif" ContentType="image/gif"/>
  <Override PartName="/ppt/media/image12.gif" ContentType="image/gif"/>
  <Override PartName="/ppt/media/image15.png" ContentType="image/png"/>
  <Override PartName="/ppt/media/image24.jpeg" ContentType="image/jpeg"/>
  <Override PartName="/ppt/media/image14.png" ContentType="image/png"/>
  <Override PartName="/ppt/media/image9.wmf" ContentType="image/x-wmf"/>
  <Override PartName="/ppt/media/image13.wmf" ContentType="image/x-wmf"/>
  <Override PartName="/ppt/media/image23.gif" ContentType="image/gif"/>
  <Override PartName="/ppt/media/image11.wmf" ContentType="image/x-wmf"/>
  <Override PartName="/ppt/media/image30.gif" ContentType="image/gif"/>
  <Override PartName="/ppt/media/image16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.jpeg" ContentType="image/jpeg"/>
  <Override PartName="/ppt/media/image28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media/image26.wmf" ContentType="image/x-wmf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C23-67DC-4C95-9E3C-2A62C842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F8A-8CB2-4A47-87D7-E1155D4E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08F-14BD-49D2-A696-0BA13919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34F-D9DD-407A-A062-7AD114CD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EA89-3295-4CE4-BFD6-7A816408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5D66-E514-4066-9127-19F937E7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BDE6-DC97-4158-9655-04732FCC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5A87-E4DB-4403-8CC6-6CD3F746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F8B3-8F13-42A6-8A39-3C132CA9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880A-E2DD-4E49-9CDE-2C965D3C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7F6A-7AC6-4F91-9CEF-1CD4BACD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AD1-A11D-4D0E-9ECF-A4DD2FDD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2AB9-B5E3-4167-BE6C-9388CD72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6AD4-162F-4658-AFC7-DE7D134C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8AE6-0305-4B1A-AE6C-EC597EBF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7CB4-3C43-46B0-9E44-9B19586D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F9D6-9D2E-497A-874B-9EE3E6BE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847D-0484-4E42-A9A1-0DCB07E1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342-F10F-46DE-A8DF-CBED772E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F18-67CB-4187-A397-F78D7C81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F2D-E1F8-4FDF-BC43-E3BA5CB1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001-29B7-41A8-A9D8-317BB2F5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4FF-B8FC-4537-B910-75D0A5D5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29F-A73E-4421-B992-7DADFBB5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5EF0-E824-4A52-AFA9-54E0496224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B161-7D8C-4766-BD7A-52AD7A204A0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1" name="Picture 4" descr="j0297705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609480" y="609480"/>
            <a:ext cx="4038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nergy: Forms and Chang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4689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hemical Energy is required to bond atoms together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And when bonds are broken, energy is released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579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uel and food are forms of stored chemical energy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4" descr="j0233391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78312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wer lines carry electromagnetic energy into your home in the form of electricit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4" descr="j0254406"/>
          <p:cNvPicPr/>
          <p:nvPr/>
        </p:nvPicPr>
        <p:blipFill>
          <a:blip r:embed="rId1"/>
          <a:stretch/>
        </p:blipFill>
        <p:spPr>
          <a:xfrm>
            <a:off x="2590920" y="4191120"/>
            <a:ext cx="49528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480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ght is a form of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ach color of light (Roy G Biv) represents a different amount of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lectromagnetic Energy is also carried by X-rays, radio waves, and laser ligh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4" descr="j0346439"/>
          <p:cNvPicPr/>
          <p:nvPr/>
        </p:nvPicPr>
        <p:blipFill>
          <a:blip r:embed="rId1"/>
          <a:stretch/>
        </p:blipFill>
        <p:spPr>
          <a:xfrm>
            <a:off x="6400800" y="1752480"/>
            <a:ext cx="22860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e nucleus of an atom is the source of nuclear energy.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1" name="Picture 7" descr="slide2"/>
          <p:cNvPicPr/>
          <p:nvPr/>
        </p:nvPicPr>
        <p:blipFill>
          <a:blip r:embed="rId1"/>
          <a:stretch/>
        </p:blipFill>
        <p:spPr>
          <a:xfrm>
            <a:off x="5105520" y="2057400"/>
            <a:ext cx="3581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en the nucleus splits (fission), nuclear energy is released in the form of heat energy and light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Nuclear energy is also released when nuclei collide at high speeds and join (fuse)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5" name="Picture 4" descr="eit-304-sm"/>
          <p:cNvPicPr/>
          <p:nvPr/>
        </p:nvPicPr>
        <p:blipFill>
          <a:blip r:embed="rId1"/>
          <a:stretch/>
        </p:blipFill>
        <p:spPr>
          <a:xfrm>
            <a:off x="1143000" y="1828800"/>
            <a:ext cx="3886200" cy="39625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5562720" y="198108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’s energy is produced from a nuclear fusion reaction in which hydrogen nuclei fuse to form helium nucle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Nuclear energy is the most concentrated form of energy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9" descr="j0233105"/>
          <p:cNvPicPr/>
          <p:nvPr/>
        </p:nvPicPr>
        <p:blipFill>
          <a:blip r:embed="rId1"/>
          <a:stretch/>
        </p:blipFill>
        <p:spPr>
          <a:xfrm>
            <a:off x="5029200" y="1981080"/>
            <a:ext cx="3189240" cy="3152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1905120" y="5638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The Surry Nuclear Power Plant converts nuclear energy into electromagnetic energ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935760" cy="19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When work is done to an object, it acquires energy. The energy it acquires is known as mechanical energy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When you kick a football, you give mechancal energy to the football to make it move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1" descr="j0238729"/>
          <p:cNvPicPr/>
          <p:nvPr/>
        </p:nvPicPr>
        <p:blipFill>
          <a:blip r:embed="rId1"/>
          <a:stretch/>
        </p:blipFill>
        <p:spPr>
          <a:xfrm>
            <a:off x="5105520" y="21337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8594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Energy is all around you!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can hear energy as soun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can see energy as ligh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nd you can feel it as win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4" descr="j0149003"/>
          <p:cNvPicPr/>
          <p:nvPr/>
        </p:nvPicPr>
        <p:blipFill>
          <a:blip r:embed="rId1"/>
          <a:stretch/>
        </p:blipFill>
        <p:spPr>
          <a:xfrm>
            <a:off x="5029200" y="4572000"/>
            <a:ext cx="297972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149108"/>
          <p:cNvPicPr/>
          <p:nvPr/>
        </p:nvPicPr>
        <p:blipFill>
          <a:blip r:embed="rId2"/>
          <a:stretch/>
        </p:blipFill>
        <p:spPr>
          <a:xfrm>
            <a:off x="838080" y="4572000"/>
            <a:ext cx="2948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500" autoRev="1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7" name="Picture 4" descr="j0239867"/>
          <p:cNvPicPr/>
          <p:nvPr/>
        </p:nvPicPr>
        <p:blipFill>
          <a:blip r:embed="rId1"/>
          <a:stretch/>
        </p:blipFill>
        <p:spPr>
          <a:xfrm>
            <a:off x="1295280" y="1828800"/>
            <a:ext cx="2895840" cy="39625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4724280" y="19051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724280" y="1981080"/>
            <a:ext cx="342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en you throw a balling ball, you give it energy. When that bowling ball hits the pins, some of the energy is transferred to the pins (transfer of momentum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igh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ectromagnetic Energy in Heat wav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unligh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ght Bulb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eadlight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3" descr="C:\Users\gnwalton\AppData\Local\Microsoft\Windows\Temporary Internet Files\Content.IE5\IL4FTOGN\MC900432617[1].png"/>
          <p:cNvPicPr/>
          <p:nvPr/>
        </p:nvPicPr>
        <p:blipFill>
          <a:blip r:embed="rId1"/>
          <a:stretch/>
        </p:blipFill>
        <p:spPr>
          <a:xfrm>
            <a:off x="518148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ound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squeezing of air molecules when an object vibrat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Music instruments and noise carry sound energy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5" name="Picture 3" descr="C:\Users\gnwalton\AppData\Local\Microsoft\Windows\Temporary Internet Files\Content.IE5\SFXCLWCO\MC900440448[1].wmf"/>
          <p:cNvPicPr/>
          <p:nvPr/>
        </p:nvPicPr>
        <p:blipFill>
          <a:blip r:embed="rId1"/>
          <a:stretch/>
        </p:blipFill>
        <p:spPr>
          <a:xfrm>
            <a:off x="4114800" y="4038480"/>
            <a:ext cx="1584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ical Energy 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in electricity and electrical charged object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ectrical energy is produced by an electrical curren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C:\Users\gnwalton\AppData\Local\Microsoft\Windows\Temporary Internet Files\Content.IE5\IL4FTOGN\MC910217618[1].wmf"/>
          <p:cNvPicPr/>
          <p:nvPr/>
        </p:nvPicPr>
        <p:blipFill>
          <a:blip r:embed="rId1"/>
          <a:stretch/>
        </p:blipFill>
        <p:spPr>
          <a:xfrm>
            <a:off x="5562720" y="3505320"/>
            <a:ext cx="151596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Magnetic Energy can be found in door buzzers, speakers, and of course magnets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2" descr="C:\Users\gnwalton\AppData\Local\Microsoft\Windows\Temporary Internet Files\Content.IE5\QYC153RJ\MC900322447[1].wmf"/>
          <p:cNvPicPr/>
          <p:nvPr/>
        </p:nvPicPr>
        <p:blipFill>
          <a:blip r:embed="rId1"/>
          <a:stretch/>
        </p:blipFill>
        <p:spPr>
          <a:xfrm>
            <a:off x="5410080" y="3048120"/>
            <a:ext cx="2932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changed from one form to another. Changes in the form of energy are called energy conversions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ll forms of energy can be converted into other form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sun’s energy through solar cells can be converted directly into electricit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reen plants convert the sun’s energy (electromagnetic) into starches and sugars (chemical energy)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Other 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n electric motor, electromagnetic energy is converted to mechanic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 battery, chemical energy is converted into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mechanical energy of a waterfall is converted to electrical energy in a generator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n automobile engine, fuel is burned to convert chemical energy into heat energy. The heat energy is then changed into mechanic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9" descr="j0189238"/>
          <p:cNvPicPr/>
          <p:nvPr/>
        </p:nvPicPr>
        <p:blipFill>
          <a:blip r:embed="rId1"/>
          <a:stretch/>
        </p:blipFill>
        <p:spPr>
          <a:xfrm>
            <a:off x="5486400" y="1981080"/>
            <a:ext cx="3276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8960" y="3581280"/>
            <a:ext cx="7313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</a:t>
            </a:r>
            <a:r>
              <a:rPr b="0" lang="en-US" sz="36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Heat </a:t>
            </a:r>
            <a:r>
              <a:rPr b="0" lang="en-US" sz="36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echanical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72" name="Picture 7" descr="j0289534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use energy when you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it a softbal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ft your book ba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ompress a sprin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Picture 4" descr="j0289499"/>
          <p:cNvPicPr/>
          <p:nvPr/>
        </p:nvPicPr>
        <p:blipFill>
          <a:blip r:embed="rId1"/>
          <a:stretch/>
        </p:blipFill>
        <p:spPr>
          <a:xfrm>
            <a:off x="5029200" y="2286000"/>
            <a:ext cx="35812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tates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most common energy conversion is the conversion between potential and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ll forms of energy can be in either of two states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tentia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Kinetic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tates of Energy: 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 and Potential Energy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Kinetic Energy is the energy of motion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Potential Energy is stored energy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energy of motion is called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faster an object moves, the more kinetic energy it h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greater the mass of a moving object, the more kinetic energy it h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Kinetic energy depends on both mass and velocit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tential Energy is stored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hemical Potent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stored chemically in fuel, the nucleus of atom, and in food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also be stored because of the work done on it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retching a rubber ban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inding a watch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ulling back on a bow’s arrow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ifting a brick high in the ai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ravitational Potential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nergy that is dependent on height is called gravitational potential energy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6" descr="j0174827"/>
          <p:cNvPicPr/>
          <p:nvPr/>
        </p:nvPicPr>
        <p:blipFill>
          <a:blip r:embed="rId1"/>
          <a:stretch/>
        </p:blipFill>
        <p:spPr>
          <a:xfrm>
            <a:off x="5119560" y="1981080"/>
            <a:ext cx="3476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6859440" cy="20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 waterfall, a suspension bridge, and a falling snowflake all have gravitational potenti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4" descr="j0215316"/>
          <p:cNvPicPr/>
          <p:nvPr/>
        </p:nvPicPr>
        <p:blipFill>
          <a:blip r:embed="rId1"/>
          <a:stretch/>
        </p:blipFill>
        <p:spPr>
          <a:xfrm>
            <a:off x="1676520" y="3429000"/>
            <a:ext cx="6400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bigger they are the harder they fall” is not just a saying. It’s true. Objects with more mass have greater G.P.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7856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lastic Potentia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nergy that is stored due to being stretched or compresse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j0289575.jpg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1587600" cy="198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j0287339"/>
          <p:cNvPicPr/>
          <p:nvPr/>
        </p:nvPicPr>
        <p:blipFill>
          <a:blip r:embed="rId2"/>
          <a:stretch/>
        </p:blipFill>
        <p:spPr>
          <a:xfrm>
            <a:off x="4952880" y="3429000"/>
            <a:ext cx="1792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9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-Potential Energy Conversion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447920" y="2057400"/>
            <a:ext cx="678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ller coasters work because of the energy that is built into the system. Initially, the cars are pulled mechanically up the tallest hill, giving them a great deal of potential energy. From that point, the conversion between potential and kinetic energy powers the cars throughout the entire ri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11" descr="j0150157"/>
          <p:cNvPicPr/>
          <p:nvPr/>
        </p:nvPicPr>
        <p:blipFill>
          <a:blip r:embed="rId1"/>
          <a:stretch/>
        </p:blipFill>
        <p:spPr>
          <a:xfrm>
            <a:off x="2286000" y="4191120"/>
            <a:ext cx="510552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vs.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97" name="Picture 4" descr="ce"/>
          <p:cNvPicPr/>
          <p:nvPr/>
        </p:nvPicPr>
        <p:blipFill>
          <a:blip r:embed="rId1"/>
          <a:stretch/>
        </p:blipFill>
        <p:spPr>
          <a:xfrm>
            <a:off x="1370160" y="1827360"/>
            <a:ext cx="6975360" cy="31384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1371600" y="5562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 the point of maximum potential energy, the car has minimum kinetic energ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Living organisms need energy for growth and movement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4" descr="j0332364"/>
          <p:cNvPicPr/>
          <p:nvPr/>
        </p:nvPicPr>
        <p:blipFill>
          <a:blip r:embed="rId1"/>
          <a:stretch/>
        </p:blipFill>
        <p:spPr>
          <a:xfrm>
            <a:off x="1447920" y="1676520"/>
            <a:ext cx="3657600" cy="2531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j0288860"/>
          <p:cNvPicPr/>
          <p:nvPr/>
        </p:nvPicPr>
        <p:blipFill>
          <a:blip r:embed="rId2"/>
          <a:stretch/>
        </p:blipFill>
        <p:spPr>
          <a:xfrm>
            <a:off x="5334120" y="1676520"/>
            <a:ext cx="3047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e Law of Conservation of Energy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neither created nor destroyed by ordinary mean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t can only be converted from one form to anothe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f energy seems to disappear, then scientists look for it – leading to many important discoveri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aw of Conservation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In 1905, Albert Einstein said that mass and energy can be converted into each other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 showed that if matter is destroyed, energy is created, and if energy is destroyed mass is created.            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 = M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Vocabulary Word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71600" y="160020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echanic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eat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hemic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lectromag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uclear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ight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ound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lectric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g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105520" y="167652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i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otenti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ravitational potenti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nergy conver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aw of Conservation of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is involved when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bird fli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bomb explod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rain falls from the sky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lectricity flows in a wir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7" descr="j0283219"/>
          <p:cNvPicPr/>
          <p:nvPr/>
        </p:nvPicPr>
        <p:blipFill>
          <a:blip r:embed="rId1"/>
          <a:stretch/>
        </p:blipFill>
        <p:spPr>
          <a:xfrm>
            <a:off x="5105520" y="2108160"/>
            <a:ext cx="3733560" cy="3530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j0281782"/>
          <p:cNvPicPr/>
          <p:nvPr/>
        </p:nvPicPr>
        <p:blipFill>
          <a:blip r:embed="rId2"/>
          <a:stretch/>
        </p:blipFill>
        <p:spPr>
          <a:xfrm>
            <a:off x="304920" y="4648320"/>
            <a:ext cx="1541520" cy="180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j0196198"/>
          <p:cNvPicPr/>
          <p:nvPr/>
        </p:nvPicPr>
        <p:blipFill>
          <a:blip r:embed="rId3"/>
          <a:stretch/>
        </p:blipFill>
        <p:spPr>
          <a:xfrm>
            <a:off x="6324480" y="152280"/>
            <a:ext cx="177660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at is energy that it can be involved in so many different activities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defined as the ability to do work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If an object or organism does work (exerts a force over a distance to move an object) the object or organism uses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Because of the direct connection between energy and work, energy is measured in the same unit as work: joules (J)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In addition to using energy to do work, objects gain energy because work is being done on them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Forms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403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nine forms of energy are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m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ctromagne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ucl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chan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u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ctr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e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Picture 7" descr="C:\Users\gnwalton\AppData\Local\Microsoft\Windows\Temporary Internet Files\Content.IE5\UXQ2WTWY\MC900014095[1].wmf"/>
          <p:cNvPicPr/>
          <p:nvPr/>
        </p:nvPicPr>
        <p:blipFill>
          <a:blip r:embed="rId1"/>
          <a:stretch/>
        </p:blipFill>
        <p:spPr>
          <a:xfrm>
            <a:off x="6454800" y="2362320"/>
            <a:ext cx="20890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ea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internal motion of the atoms is called heat energy, because moving particles produce hea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 energy can be produced by frictio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 energy causes changes in temperature and phase of any form of matte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23:14:26Z</dcterms:created>
  <dc:creator>Vicki Lewis</dc:creator>
  <dc:description/>
  <dc:language>en-US</dc:language>
  <cp:lastModifiedBy>James Scheuer</cp:lastModifiedBy>
  <dcterms:modified xsi:type="dcterms:W3CDTF">2017-02-28T15:03:47Z</dcterms:modified>
  <cp:revision>34</cp:revision>
  <dc:subject/>
  <dc:title>Energy:</dc:title>
</cp:coreProperties>
</file>